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706C-06AB-4AA4-9E34-60B7E5694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6313-6D70-482D-A1A8-0E9717AD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FDCE2-0D53-4452-9FAE-2C48A375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76E11-1241-42B2-9CF8-7C2EDD62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428BC-7D9D-4F34-9C47-B2CE84E1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86913-0948-4516-B499-A814CF0B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93298-FDC2-40A0-891C-E2A43938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D8278E-A8B2-4AD0-99E8-40A268EA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B61ED-A27A-4CD5-9075-8F002278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D01CE-8FDF-4C1A-8F90-18F56A966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3F728-02F3-422E-9FFC-9B68F34A0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3FC06E-C23F-4787-8A88-BE0CD0E1D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09B5-2791-4676-9252-FA25B59AF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EC4772-62D4-4334-B7C0-BCA3AA4C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0081F4-ADB8-4749-8CE5-424E3860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0F74E-C623-44AA-B986-C8FB6E78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05344-D365-4DBB-AA43-FB7C94BF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C723A7-C63F-4121-9EFF-CA63E671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C88DC2-3209-48DF-AC6C-A676501C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0FAA3-9679-48AF-8D28-5B5D18D4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A35081-0504-42F2-BE83-3FC1E1D8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C997E0-C161-48E0-A65D-702D76B3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73FF6B-A72D-42B7-903E-D7435223C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D6E5-820E-4545-AD72-191C1F141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C6C0E-FBCF-47DA-A1C6-2EA296E79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7F11C-CA10-4069-A86F-A3C3B7DA4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BD876-0853-4597-B354-FC383C64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5319A-7C66-4520-A39A-BEFBDA45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87FA8-00E0-4DB8-A099-40FDEB30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D51AC-E84D-4833-A47C-E6AB6E6D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85F5A-4B5B-422B-940C-EB8763B9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DDCEA-5D4A-48B7-89B0-59494DD1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9B0306-9C7C-4352-8593-4D18FDA7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C6B9B-CE9A-40BE-9AA4-F846A5DF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36F0-39AF-47FF-906F-23B5301A8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FB38FA-3018-4B02-A475-452CE126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1382F-2F5F-4E51-9579-B0737F7AA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29EFF-5CCB-4C00-9084-51300353B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AEC6C0-3DC1-45FE-AB14-8DEEBD8B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47628E-CDB3-40EC-8FAA-013F1C87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B87FB3-915A-4BE8-AE16-D29CF21D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CE908A-64F9-4015-A7FC-06D6FC67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A6D55B-89EA-485B-AE28-37DFFA3C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83DE96-B617-4E50-87DA-4F8CB2A1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FE91AE-0C70-46D5-A74B-84009232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0C395-DBE4-4ECA-9A21-D6160B38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1C7700-16FD-4BD7-B596-6F962298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717460-B21F-4CD6-BAAD-2D8FD2B2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54F27C-DC9F-4F7E-A53E-6DFE31BB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58B783-EF8F-4352-ACC3-83CF8491B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89E06-9915-4016-8B05-DFAFCEAB1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79FB83-4C8D-48E3-9153-533D4FBE5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7C223E-9592-44D0-BB0F-8A83B6B0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B6B91F-DF4D-482E-B757-D3DC309E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395B41-85D7-4DA9-AAB3-FD6FB465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FE42F4-5ADC-420B-BC27-E4762CD1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5E7B-609B-4B34-A40E-CF4E6D87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5E74DD-CF09-47FF-BE9E-D99FF4E9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B069F8-C6E1-43BA-876A-BC75B9CC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7B831B-DC47-4827-A361-F1992945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ADC8ED-DEF3-47D7-A4DB-B488FA84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B79E14-8DAD-4C01-ABEB-E86C7065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D0C08C-44E1-4ACD-B996-C30D98649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0B4317-C57C-48A2-AD0F-CC721E0F1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375422-44A2-45E2-9365-2AA0A781F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C37AA1-9539-492B-98D7-E67BD11D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E4F1B3-1A2D-4DE8-86D3-63269795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B9B1-5738-489D-8205-00302097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99C66D-4BAA-4972-BED2-50A83B40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02EFD9-8890-405E-A478-FB8530D8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CF9F1A-F149-4034-BC36-283E6DF7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61CF73-D580-4753-A719-1A768546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1E0766-CE93-465C-B605-3CA87009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A6C1C8-010B-4101-BE6E-02D5AA54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028883-7954-4E9B-B274-69F28234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9C60FD-C63A-49A0-BB5C-ECCDB972E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A6C652-A2E3-498B-894B-A819B5961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5B8C46-4723-4691-B074-6FF040199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B803-4A13-47A7-B98D-0BAF1CC9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BC60DD-7A2B-4D6C-8B6B-27D934ED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A68088-6637-4FBC-AF70-1CADC0FD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50E70E-9F01-484E-A5B1-964B7206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89FB45-8DC4-4DCD-BD41-39C7A9D4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298638-51C1-4F63-AA1C-DF539AB6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9AAA68-556A-41DE-8270-21DF9014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D6E48B-4A80-48EF-AB71-630BFE03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5BF1E8-522F-4912-8F97-C19BBEDE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F92978-F914-4940-91AF-5660034C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5C4529-0F3B-442F-BCC5-FBB424C9B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891E-B27B-4ED9-A8E3-28DBE935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64A125-D5AB-4009-B2E0-EE7EB8D3A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2DCF4A-539B-4EE8-BCB1-AE2B97ECB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3DD7BA-2D28-4E1C-A73C-0E030CCC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84BFF0-6251-4A75-862C-71F09D02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53D5B0-94C0-44D1-B1DA-AAB119BE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3BCDBA-8B08-4AC2-895A-ABAB146B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C3FF0B-768B-46A7-B308-A3F3F862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C2B09D-3213-48B3-9D06-53D9D7D8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FBCD70-5008-4D6D-950A-91C49B53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3AD420-C5F1-4D62-A544-A229E1DC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9AAE-4C3F-4890-BF22-151FDB63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DCB3EE-7612-463A-ACF5-17BDD452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C8FEF3-615E-4A1B-B98B-BF9B0E64A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6DBCB0-3A63-4F37-892C-2E3A8BDE4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19C5F3-E65A-43F1-A02F-EA7FE3A63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5F3A03-2F80-4A3A-8068-06B5F831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9FA71B-4E25-4703-BF64-306BF231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735D5E-CA25-44EF-80E9-6C7A43CF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328F09-7A3D-411B-89D3-0BF19385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D1E2A3-516C-443D-A898-09C99648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96D0C5-9532-47E1-915C-5CFF14EA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4355-34DD-4514-8FBD-27C717C3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873C-EDA0-433C-8A9E-0E447B8F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DE8764-02A6-470C-9BB6-CF1DB7FE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BE6FC2-044A-4B84-B507-AEEB7919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DE759D-B380-4DAC-B329-89AF5F08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29A2C9-84A2-497E-BF6B-A93666F72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D6FF46-D165-4240-922E-258C97165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9C9355-F090-4258-8694-1B5A8C0A9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8B095F-92DE-4F2E-A9DA-85D4D0BF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9AEEF7-E1AA-4551-A2D3-7F05BE49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C8F507-9294-4CD5-915A-919F23BF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AA4A3C-9F54-40AC-9705-9731E1F4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B1E7-3EF8-4D75-87D4-1C6D004C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38462A-D0B5-47EB-9644-E5113539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E676E1-AB46-4C04-9083-BF649B65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F82D38-B3D6-4FEA-83FD-9173B069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1E5548-DD35-4733-84D4-53190827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AA2918-ABBE-4570-B36C-6D783306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725700-E750-4C9B-AABE-AC9C4812F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C91D90-7A1A-459D-8EDE-8951709B5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237F7C-2F08-4F60-8E25-A1CDF94E0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83D29D-2E88-4732-87D4-110282EF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ED4290-E7D0-473E-BA27-3C9CED4D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115F8-0A9E-45AD-8BEE-EBFCE4CC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BD7024-4FFF-455B-A642-91988B9C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5FBB7A-CAF7-4EDD-854B-6CFA1C31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4390E7-3832-4DC5-8235-8333F695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09295D-6BB0-40BC-BF88-E7D63767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A4F4DD-8892-4BF4-B694-2B5C8DA6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086C96-F6C5-4A58-A3BB-5FBAFC33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296C75-FCCA-49E8-B1CB-2FF87148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6DC470-B4C0-492D-8EC1-72BDF2799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670DE9-9FEA-4804-8F33-64AAC9EF1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A164AE-4B38-4C82-A34B-E07A4D0AC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50EF-9C15-4FF5-9B2D-E9D237A66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320618-B2CC-43B2-9A27-4025A3D1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1694CA-AD7D-4013-9B00-5B638427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17D0C4-1B8E-4FAA-A1B4-72C4D2FF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D7E1E6-90EC-4C8D-B538-CEB303F4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6C8542-4E3C-445B-A3B3-6FCB3494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B10093-8698-4605-972C-40BB9E95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B1AC99-72A3-4CEC-8617-F5303567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9E9044-7B88-40CF-A0AE-59D9F29D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A82109-955D-4EF7-BA58-692AEF93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2D637D-D8A4-4EA8-96F1-8C591653F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BB83-B2A3-499C-B9A3-38B291C1B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D09155-FAEE-4A1B-9DC4-DFEF59A8B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C5301D-7B4E-419D-98C5-BC225E944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D94ED2-D7A4-46BF-91CD-94BE09F3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EEF966-CDD7-40BA-8916-BC2064CC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AAD4C1-F40D-4377-872D-946F2B68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9DD0E3-2CED-403D-B98D-4B8586C9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2DA1B1-F94D-44A4-98FE-FB5951D2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097D0E-CB14-46D2-984F-3CF7DD75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AF368F-FC94-4F10-A5D8-B182E77C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6E354A-5E7B-4744-BA46-22E3A977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5B755-9B4A-4741-969D-3D9F3E705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A7E04F-96FA-418D-8EE4-18AB4AF1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E9B066-039C-4385-A5E8-AFC31121F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D1B06C-F8E5-4041-902D-7404470A0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B9110-AF26-49CE-8E63-3D000CF0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0AE44-DDFD-4717-B89E-5B0B5231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6E590-B791-4CEF-AD6B-876B7E2B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E9C33-A3EA-470D-872F-D74D84E2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CDB8-2308-48F6-8A8A-4751831A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64024-120E-46AB-9CB4-3751D519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C450D-3D94-4152-9B2E-1E1794A7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E81F0-2C0A-4FEA-8B96-F59B7136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A62F7-E970-4B15-832C-7F1B4965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69BE1-DFF0-4DA8-8856-96C6EC01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55B23-94AE-47CA-9EF0-B174C3D5C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E69D4-1B03-44AD-B6F1-E72630F60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FBC48-03F3-4182-9DB1-1DD393D2F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DFCAD-F4A8-45AB-8693-80FC7CB7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23B94-7E49-49E6-B295-DD2D723F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197D-5A65-4C58-8B72-A2BE7C29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72BCE-43DC-4216-BEDA-5662BC7C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3874D-F91B-4F52-8E49-7789DABC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A1684-98D0-4798-A996-20C456B2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09B13-CE18-488C-B750-D342ADFA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AE49F-C84C-4CCB-B323-96981AC0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88B2B-6619-4273-98E5-DB9A1374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E227B-A18A-48A7-8393-49519AC4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5482E-1D8F-4FA7-AB20-0D80D7185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E7DCA-937C-45B7-87F3-4DB9182DC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59C81-0A8D-4E47-BB6A-E8B030B03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A1E6-D931-49A4-8C09-4590CF64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4D720-B58B-46FC-A3BD-8BC1FD0F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27E45-2630-4ACC-8FD1-8E39FA37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04627-7841-45C4-B4A2-583A652F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CDB14-D4F0-4AE4-9840-E91D4EFD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92376-630C-4A18-B7EC-06473130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C9471-1777-4B73-8262-8F05B6E7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2BC1F-7030-4844-9CF0-54D6BF21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ACC60-6457-42BF-8456-84CDD898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25622-5056-42F0-8F2A-23715F59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31D7E-516B-418B-A6DA-E4D158F84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10F2-A55F-4304-86F8-9AA5D976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20581-3682-4FEC-B36E-691DA11D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F76C5-4C47-45FE-A966-3BF04570F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A767E-734D-471B-9A58-10A6C68F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4E96B-4E14-466E-8CBA-D9D8410B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BD34F-A6FE-4214-97DF-5377C281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22A2D-73E8-4363-B65C-7F9AFD52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12F17-977D-442F-BB68-1A996070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42147-6A56-4E2D-B380-F22F29C8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72E48-2DEE-42C8-87CD-99C1945B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8ECCF-0BF4-4BCC-B7F7-23E164A6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5ABA-069C-48C2-B8A3-07A16731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CBBEB-9D40-4BA3-B396-9A4F2A14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EFA9E-F4EE-4BF9-862B-3E7BEE629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5BA4E-B786-452F-B166-B5965A529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C7E70-B8CB-45C3-A75C-B86A3F1C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A91ED-D549-41E0-A7D5-ED34FAA0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0DF40-D3D2-4519-BF86-84696D37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014F1-2E8D-4186-8E1E-8E760527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7770F-5233-4244-8FB9-DF5AC405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18A32-F923-42ED-9813-6323EC17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D816F-3666-4026-A93E-375DDF18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E354-C5A0-4475-A2F8-63EC9558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3D807-6F21-4123-996D-0A868E73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F0C3D-4B0E-4F86-8361-08944F1F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BFB53-E669-44BC-A60A-F2AB9C05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289E1-7D91-4F47-A111-06EDD6049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5B93F-75A8-461F-900B-A2F3D2543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4E3EA-0C27-4CC0-936D-CDD223039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98033-4D58-460B-8696-BE15F5DD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D9090-DCAB-405D-B3F7-F24CB6FB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F8ADD-535A-4FEE-A962-517FDFE1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3B5C2-BEF4-4221-950D-996CCF8D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71C9-B9B2-4626-802D-AC7E5B72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13283-44E9-4643-A034-ED30A564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1E0D0-4F37-4404-B2D7-438AF8C4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7DE23-E8CE-4951-998B-9044D1A3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71C42-B324-491B-A037-82E647D1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9E0F8-6B3B-47E4-ADC6-6D4E22C2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671BE-1519-41A5-9892-B4C565000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42B54-1ABB-4FE8-9B4E-D99CE25B0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F273D-2A54-4862-92A4-C24567919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456A5-93ED-4B2B-83EE-636D8791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1DBF33-25A1-4FE3-A7B1-EB29F2F6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B483-1713-4565-ADA3-D0E6780BBE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0CD5-8C1B-40C4-93E2-EAA8C927DB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0A27-405F-4FDF-A458-73A0F6455D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3C90-F897-46B9-B2E8-344B29D60E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CE0A-6EE2-4C9C-8D68-77D538115A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8918-F29F-4132-8162-490BA8021E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B7E6-AF7F-4FC6-B17A-71E40DA863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8814-39B6-4B3C-A11B-E05459585F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FF50-A828-4C72-92E5-7A3C5DA00B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A64C-CAB7-499C-9E85-E470E010CC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3D2B-BB5E-44A3-9AFD-E8C00B69B8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C202-02CB-46B2-BE86-F178242DFE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DB54-957C-4A4E-A9CA-D7336CFFDF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7C58-FBAF-4B73-ACDB-8B500942F1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6037-A9F1-4337-BBD5-2AE21605D9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7216-2112-43EE-8F7C-25BB5B39EB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BB77-0CE4-40AE-B4C2-79E0294E8B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CAA6-EAFD-4DBB-8286-49B68C88CE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1FA8-C528-410D-B630-519C69C21A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14A3-5E3A-4AA2-9F3D-F5F25A49D7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1678-BF2A-4129-ABCA-EF877464C7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0075-616A-4262-9574-E4B12B4DA8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9CCB-28B5-4818-8E88-D46CF4F081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FBAC-CD37-4E9E-847A-81C49D7140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B6BC-7671-4E1D-8A26-182A0815F9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1959-2D44-4B35-841B-6FD7BCA92F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9259-BEA9-42AC-9A47-74DCF56BA1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BBF8-A269-408D-BE64-4E86B3070A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A329-C7AA-4565-AEA0-9824AE0C4E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012E-432E-495A-85F9-D0C7BDCAD1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F20B-956C-445D-9002-F484D44318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2E0C-F447-4799-A14E-9F6CB7E33B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83F9-8DB8-4ED3-9818-3E93D0FB6C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7C98-9404-471C-B5E7-77C25995CB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AAE7-BFE4-4222-89D7-150F2CF0EE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D90A-2287-4BD1-8ECD-BCA98D40D1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784B-B32D-465A-BCA2-98463C9723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F724-6E96-4009-8C0A-99E62548A0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2D8A-F4AA-4539-A3D2-0CDB46CA5F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3F89-E953-4076-96EA-8FD1A3B6B8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76200" y="2952720"/>
            <a:ext cx="83916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69633" descr=""/>
          <p:cNvPicPr/>
          <p:nvPr/>
        </p:nvPicPr>
        <p:blipFill>
          <a:blip r:embed="rId1"/>
          <a:stretch/>
        </p:blipFill>
        <p:spPr>
          <a:xfrm>
            <a:off x="190440" y="1857240"/>
            <a:ext cx="8763120" cy="31435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2"/>
          <a:stretch/>
        </p:blipFill>
        <p:spPr>
          <a:xfrm>
            <a:off x="755640" y="2579760"/>
            <a:ext cx="5040360" cy="4935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3"/>
          <a:stretch/>
        </p:blipFill>
        <p:spPr>
          <a:xfrm>
            <a:off x="324000" y="3156120"/>
            <a:ext cx="5040000" cy="4935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4"/>
          <a:stretch/>
        </p:blipFill>
        <p:spPr>
          <a:xfrm>
            <a:off x="324000" y="3789360"/>
            <a:ext cx="5040000" cy="4935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5"/>
          <a:stretch/>
        </p:blipFill>
        <p:spPr>
          <a:xfrm>
            <a:off x="395280" y="4379760"/>
            <a:ext cx="5040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图片 68609" descr=""/>
          <p:cNvPicPr/>
          <p:nvPr/>
        </p:nvPicPr>
        <p:blipFill>
          <a:blip r:embed="rId1"/>
          <a:stretch/>
        </p:blipFill>
        <p:spPr>
          <a:xfrm>
            <a:off x="262080" y="774720"/>
            <a:ext cx="8619840" cy="603900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2"/>
          <a:stretch/>
        </p:blipFill>
        <p:spPr>
          <a:xfrm>
            <a:off x="900000" y="3386160"/>
            <a:ext cx="4824360" cy="4935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3"/>
          <a:stretch/>
        </p:blipFill>
        <p:spPr>
          <a:xfrm>
            <a:off x="755640" y="4005360"/>
            <a:ext cx="4824360" cy="4935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4"/>
          <a:stretch/>
        </p:blipFill>
        <p:spPr>
          <a:xfrm>
            <a:off x="971640" y="4581360"/>
            <a:ext cx="4824360" cy="4939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5"/>
          <a:stretch/>
        </p:blipFill>
        <p:spPr>
          <a:xfrm>
            <a:off x="826920" y="5056200"/>
            <a:ext cx="4824720" cy="4935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6"/>
          <a:stretch/>
        </p:blipFill>
        <p:spPr>
          <a:xfrm>
            <a:off x="900000" y="5661000"/>
            <a:ext cx="4824360" cy="4935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7"/>
          <a:stretch/>
        </p:blipFill>
        <p:spPr>
          <a:xfrm>
            <a:off x="684360" y="6237360"/>
            <a:ext cx="63356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图片 67585" descr=""/>
          <p:cNvPicPr/>
          <p:nvPr/>
        </p:nvPicPr>
        <p:blipFill>
          <a:blip r:embed="rId1"/>
          <a:stretch/>
        </p:blipFill>
        <p:spPr>
          <a:xfrm>
            <a:off x="633240" y="1728720"/>
            <a:ext cx="7877520" cy="34005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8280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99880" y="942840"/>
            <a:ext cx="8544240" cy="49723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4427640" y="3573360"/>
            <a:ext cx="576000" cy="4939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6084720" y="422100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2195640" y="5343480"/>
            <a:ext cx="165564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552600" y="1380960"/>
            <a:ext cx="8038800" cy="40960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3924360" y="2593800"/>
            <a:ext cx="1224000" cy="4939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3"/>
          <a:stretch/>
        </p:blipFill>
        <p:spPr>
          <a:xfrm>
            <a:off x="1763640" y="3789360"/>
            <a:ext cx="1224000" cy="4935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4"/>
          <a:stretch/>
        </p:blipFill>
        <p:spPr>
          <a:xfrm>
            <a:off x="6227640" y="5013360"/>
            <a:ext cx="1224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8373" descr=""/>
          <p:cNvPicPr/>
          <p:nvPr/>
        </p:nvPicPr>
        <p:blipFill>
          <a:blip r:embed="rId1"/>
          <a:stretch/>
        </p:blipFill>
        <p:spPr>
          <a:xfrm>
            <a:off x="590400" y="2257560"/>
            <a:ext cx="7963200" cy="23428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1619280" y="4062240"/>
            <a:ext cx="208908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7352" descr=""/>
          <p:cNvPicPr/>
          <p:nvPr/>
        </p:nvPicPr>
        <p:blipFill>
          <a:blip r:embed="rId1"/>
          <a:stretch/>
        </p:blipFill>
        <p:spPr>
          <a:xfrm>
            <a:off x="228600" y="1319040"/>
            <a:ext cx="8686800" cy="42199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7596360" y="263700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7667640" y="378936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7667640" y="502776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6324" descr=""/>
          <p:cNvPicPr/>
          <p:nvPr/>
        </p:nvPicPr>
        <p:blipFill>
          <a:blip r:embed="rId1"/>
          <a:stretch/>
        </p:blipFill>
        <p:spPr>
          <a:xfrm>
            <a:off x="590400" y="2243160"/>
            <a:ext cx="7963200" cy="23716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7308720" y="280980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7308720" y="4019400"/>
            <a:ext cx="57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5300" descr=""/>
          <p:cNvPicPr/>
          <p:nvPr/>
        </p:nvPicPr>
        <p:blipFill>
          <a:blip r:embed="rId1"/>
          <a:stretch/>
        </p:blipFill>
        <p:spPr>
          <a:xfrm>
            <a:off x="252360" y="690480"/>
            <a:ext cx="8639280" cy="54770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826920" y="4522680"/>
            <a:ext cx="8066160" cy="493920"/>
          </a:xfrm>
          <a:prstGeom prst="rect">
            <a:avLst/>
          </a:prstGeom>
          <a:ln w="0">
            <a:noFill/>
          </a:ln>
        </p:spPr>
      </p:pic>
      <p:pic>
        <p:nvPicPr>
          <p:cNvPr id="941" name="图片 55302" descr=""/>
          <p:cNvPicPr/>
          <p:nvPr/>
        </p:nvPicPr>
        <p:blipFill>
          <a:blip r:embed="rId3"/>
          <a:stretch/>
        </p:blipFill>
        <p:spPr>
          <a:xfrm>
            <a:off x="1677960" y="2548080"/>
            <a:ext cx="1952640" cy="2095200"/>
          </a:xfrm>
          <a:prstGeom prst="rect">
            <a:avLst/>
          </a:prstGeom>
          <a:ln w="0">
            <a:noFill/>
          </a:ln>
        </p:spPr>
      </p:pic>
      <p:pic>
        <p:nvPicPr>
          <p:cNvPr id="942" name="图片 55303" descr=""/>
          <p:cNvPicPr/>
          <p:nvPr/>
        </p:nvPicPr>
        <p:blipFill>
          <a:blip r:embed="rId4"/>
          <a:stretch/>
        </p:blipFill>
        <p:spPr>
          <a:xfrm>
            <a:off x="4272120" y="2679840"/>
            <a:ext cx="1676160" cy="1780920"/>
          </a:xfrm>
          <a:prstGeom prst="rect">
            <a:avLst/>
          </a:prstGeom>
          <a:ln w="0">
            <a:noFill/>
          </a:ln>
        </p:spPr>
      </p:pic>
      <p:grpSp>
        <p:nvGrpSpPr>
          <p:cNvPr id="943" name="组合 55307"/>
          <p:cNvGrpSpPr/>
          <p:nvPr/>
        </p:nvGrpSpPr>
        <p:grpSpPr>
          <a:xfrm>
            <a:off x="6630840" y="2492280"/>
            <a:ext cx="1476360" cy="2016360"/>
            <a:chOff x="6630840" y="2492280"/>
            <a:chExt cx="1476360" cy="2016360"/>
          </a:xfrm>
        </p:grpSpPr>
        <p:pic>
          <p:nvPicPr>
            <p:cNvPr id="944" name="图片 55304" descr=""/>
            <p:cNvPicPr/>
            <p:nvPr/>
          </p:nvPicPr>
          <p:blipFill>
            <a:blip r:embed="rId5"/>
            <a:stretch/>
          </p:blipFill>
          <p:spPr>
            <a:xfrm>
              <a:off x="6630840" y="2765520"/>
              <a:ext cx="147636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5" name="Picture 1" descr=""/>
            <p:cNvPicPr/>
            <p:nvPr/>
          </p:nvPicPr>
          <p:blipFill>
            <a:blip r:embed="rId6"/>
            <a:stretch/>
          </p:blipFill>
          <p:spPr>
            <a:xfrm>
              <a:off x="7236000" y="2492280"/>
              <a:ext cx="576000" cy="49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6" name="Picture 1" descr=""/>
            <p:cNvPicPr/>
            <p:nvPr/>
          </p:nvPicPr>
          <p:blipFill>
            <a:blip r:embed="rId7"/>
            <a:stretch/>
          </p:blipFill>
          <p:spPr>
            <a:xfrm>
              <a:off x="7164360" y="4164120"/>
              <a:ext cx="576360" cy="344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7" name="Picture 1" descr=""/>
          <p:cNvPicPr/>
          <p:nvPr/>
        </p:nvPicPr>
        <p:blipFill>
          <a:blip r:embed="rId8"/>
          <a:stretch/>
        </p:blipFill>
        <p:spPr>
          <a:xfrm>
            <a:off x="755640" y="5143680"/>
            <a:ext cx="8066160" cy="4935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9"/>
          <a:stretch/>
        </p:blipFill>
        <p:spPr>
          <a:xfrm>
            <a:off x="684360" y="5689440"/>
            <a:ext cx="80658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4276" descr=""/>
          <p:cNvPicPr/>
          <p:nvPr/>
        </p:nvPicPr>
        <p:blipFill>
          <a:blip r:embed="rId1"/>
          <a:stretch/>
        </p:blipFill>
        <p:spPr>
          <a:xfrm>
            <a:off x="285840" y="690480"/>
            <a:ext cx="8572320" cy="5477040"/>
          </a:xfrm>
          <a:prstGeom prst="rect">
            <a:avLst/>
          </a:prstGeom>
          <a:ln w="0">
            <a:noFill/>
          </a:ln>
        </p:spPr>
      </p:pic>
      <p:pic>
        <p:nvPicPr>
          <p:cNvPr id="950" name="图片 54277" descr=""/>
          <p:cNvPicPr/>
          <p:nvPr/>
        </p:nvPicPr>
        <p:blipFill>
          <a:blip r:embed="rId2"/>
          <a:stretch/>
        </p:blipFill>
        <p:spPr>
          <a:xfrm>
            <a:off x="1274760" y="2630520"/>
            <a:ext cx="73436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2231" descr=""/>
          <p:cNvPicPr/>
          <p:nvPr/>
        </p:nvPicPr>
        <p:blipFill>
          <a:blip r:embed="rId1"/>
          <a:stretch/>
        </p:blipFill>
        <p:spPr>
          <a:xfrm>
            <a:off x="285840" y="1019160"/>
            <a:ext cx="8572320" cy="48196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1042920" y="1782720"/>
            <a:ext cx="4824360" cy="9255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755640" y="2838600"/>
            <a:ext cx="3311640" cy="4935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4"/>
          <a:stretch/>
        </p:blipFill>
        <p:spPr>
          <a:xfrm>
            <a:off x="684360" y="3443400"/>
            <a:ext cx="33112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22:25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